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25D6-62DC-43AD-B2A3-091B49C7F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5309-618B-486E-B85A-6999BAB51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A16E-6363-416F-BC77-76C011385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E378-7758-4E0F-B72D-849732925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6B40-210F-4A41-B289-04F6E11EA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B55-10DF-41C4-83C2-389EC18A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2EF-54D9-491D-9771-603221EC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85F-8F96-4A3A-A50C-80CAE7D5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C4E-2B3F-4C72-9DB6-1EEFC64F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1C9-5F46-4575-BD02-E7444A4F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46E-0B17-4623-A2E0-150F8F69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75D-3B9E-4EF1-B405-C3FD39CC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549-7390-4F1B-89F6-08B0B6B1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477-E9E6-44FA-A8BF-C2481915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C33-62FA-4CBF-8FE3-A0CB6709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E46-52E4-49C7-8352-63060CDE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A14-CE48-4D4C-9587-C3F25A7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C23C-5DE4-408C-8DFC-C2668B234BF4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w To Write An Ess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98989"/>
                </a:solidFill>
                <a:latin typeface="Calibri"/>
                <a:ea typeface="Calibri"/>
              </a:rPr>
              <a:t>By</a:t>
            </a:r>
            <a:br>
              <a:rPr sz="4000"/>
            </a:br>
            <a:r>
              <a:rPr b="1" lang="en-GB" sz="4400" spc="-1" strike="noStrike">
                <a:solidFill>
                  <a:srgbClr val="898989"/>
                </a:solidFill>
                <a:latin typeface="Calibri"/>
                <a:ea typeface="Calibri"/>
              </a:rPr>
              <a:t>Tanveer Ahmed</a:t>
            </a:r>
            <a:br>
              <a:rPr sz="4400"/>
            </a:br>
            <a:r>
              <a:rPr b="1" lang="en-GB" sz="4000" spc="-1" strike="noStrike">
                <a:solidFill>
                  <a:srgbClr val="898989"/>
                </a:solidFill>
                <a:latin typeface="Calibri"/>
                <a:ea typeface="Calibri"/>
              </a:rPr>
              <a:t>Visiting Lecturer</a:t>
            </a:r>
            <a:br>
              <a:rPr sz="4400"/>
            </a:br>
            <a:r>
              <a:rPr b="1" lang="en-GB" sz="3200" spc="-1" strike="noStrike">
                <a:solidFill>
                  <a:srgbClr val="898989"/>
                </a:solidFill>
                <a:latin typeface="Calibri"/>
                <a:ea typeface="Calibri"/>
              </a:rPr>
              <a:t>The Islamia University of Bahawalp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an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666360"/>
            <a:ext cx="8534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26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ome-Phobia in Ame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26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n 2004, the Gnome Liberation Front (GLF) was created.  This group of people believes that gnomes should be free, not prisoners of their owner’s garden.  2. The GLF has now begun gnome-napping, the act of stealing gnomes and “freeing them” in the wilderness; however, the law is unwilling to do anything. 3. Many police state that the gnomes are not a serious enough offense to deal with and that they have larger crimes to deal with.  This is not acceptable.  The law should be taking the gnome-napping more seriously because people are committing a crime.  4. Gnome-napping is stealing personal property, and is illegal, morally wrong, and disrespectfu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26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26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ttention get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tate your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ridge or transition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sis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NOTE: This doesn’t mean your intro is 4 sentences long.  It just has 4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dy is a set of paragraphs that develop the idea expressed in the thesis stat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a list of main ideas that support the thesis statement. Each main idea becomes the main idea sentence for a body paragrap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the main ideas in logical order (time, place, importa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out each body paragraph by listing major details that support each main id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the details within each paragraph in a logical way. Each body paragraph may end with a concluding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Essay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160" y="10663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ome-napping is stealing personal property, and is illegal, morally wrong, and disrespectfu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Paragraph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 Sentence:  Gnome-napping is stealing someone’s personal property, and stealing is illeg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Points:          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Paragraph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 Sentence:  It is morally wrong to take anyone’s property, whether it is a gnome or a c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Points:      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Paragraph 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 Sentence:  The GLF is incredibly disrespectful because they take items that don’t belong th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Points:      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iting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planning and arranging your main ideas and major details, begin writing your body paragraph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paragraphs depends on the topic’s complexity, inclusiveness, and your purpose for wri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a short essay contains 3 to 5 body   paragraphs, plus an introduction and 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to use signal words to make smooth transitions between sentences and paragraph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/Transitio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s: For example, for instance, to illus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organization or chronological order: The six steps are…, next, finally first, secondly, thi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dditional points: Furthermore, in addition, also, moreov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opposing ideas: On the other hand, in contrast, although, how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milar ideas: Likewise, similarly, in compar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/Transitio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ceptions: However, nevertheless, but, yet, sti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mphasis: Above all, finally, more importa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nderstanding: In other words, in essence, brief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ummarizing: In conclusion, to sum up, for these reasons, in a nutsh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s: Remember this, this is important, this could be on the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 the reader thinking about your topic.  Leave an impression on the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w information in 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ure to recap your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follow logically from the body of the ess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te your thesis statement in different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want to have your reader do something after reading (“call to action” – Example: Go write your Senator about this problem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Write An Ess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361960"/>
            <a:ext cx="64771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ay Format, Introductions, Body, Conclusions, Thesis Statements, and Topic Sent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ay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3000" cy="4505400"/>
          </a:xfrm>
          <a:prstGeom prst="rect">
            <a:avLst/>
          </a:prstGeom>
          <a:ln w="0">
            <a:noFill/>
          </a:ln>
        </p:spPr>
      </p:pic>
      <p:grpSp>
        <p:nvGrpSpPr>
          <p:cNvPr id="54" name="Isosceles Triangle 4"/>
          <p:cNvGrpSpPr/>
          <p:nvPr/>
        </p:nvGrpSpPr>
        <p:grpSpPr>
          <a:xfrm>
            <a:off x="3371760" y="4840200"/>
            <a:ext cx="1333440" cy="1481400"/>
            <a:chOff x="3371760" y="4840200"/>
            <a:chExt cx="1333440" cy="1481400"/>
          </a:xfrm>
        </p:grpSpPr>
        <p:pic>
          <p:nvPicPr>
            <p:cNvPr id="55" name="Isosceles Triangle 4" descr=""/>
            <p:cNvPicPr/>
            <p:nvPr/>
          </p:nvPicPr>
          <p:blipFill>
            <a:blip r:embed="rId2"/>
            <a:stretch/>
          </p:blipFill>
          <p:spPr>
            <a:xfrm>
              <a:off x="3371760" y="4840200"/>
              <a:ext cx="133344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733920" y="556272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57" name="Isosceles Triangle 5"/>
          <p:cNvGrpSpPr/>
          <p:nvPr/>
        </p:nvGrpSpPr>
        <p:grpSpPr>
          <a:xfrm>
            <a:off x="3371760" y="1566720"/>
            <a:ext cx="1333440" cy="1328760"/>
            <a:chOff x="3371760" y="1566720"/>
            <a:chExt cx="1333440" cy="1328760"/>
          </a:xfrm>
        </p:grpSpPr>
        <p:pic>
          <p:nvPicPr>
            <p:cNvPr id="58" name="Isosceles Triangle 5" descr=""/>
            <p:cNvPicPr/>
            <p:nvPr/>
          </p:nvPicPr>
          <p:blipFill>
            <a:blip r:embed="rId3"/>
            <a:stretch/>
          </p:blipFill>
          <p:spPr>
            <a:xfrm>
              <a:off x="3371760" y="1566720"/>
              <a:ext cx="1333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rot="10800000">
              <a:off x="3733560" y="1599840"/>
              <a:ext cx="60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60" name="Rectangle 6"/>
          <p:cNvGrpSpPr/>
          <p:nvPr/>
        </p:nvGrpSpPr>
        <p:grpSpPr>
          <a:xfrm>
            <a:off x="3371760" y="3011400"/>
            <a:ext cx="1333440" cy="1865520"/>
            <a:chOff x="3371760" y="3011400"/>
            <a:chExt cx="1333440" cy="1865520"/>
          </a:xfrm>
        </p:grpSpPr>
        <p:pic>
          <p:nvPicPr>
            <p:cNvPr id="61" name="Rectangle 6" descr=""/>
            <p:cNvPicPr/>
            <p:nvPr/>
          </p:nvPicPr>
          <p:blipFill>
            <a:blip r:embed="rId4"/>
            <a:stretch/>
          </p:blipFill>
          <p:spPr>
            <a:xfrm>
              <a:off x="3371760" y="3011400"/>
              <a:ext cx="133344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429000" y="3048120"/>
              <a:ext cx="12193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63" name="TextBox 7"/>
          <p:cNvSpPr/>
          <p:nvPr/>
        </p:nvSpPr>
        <p:spPr>
          <a:xfrm>
            <a:off x="4807440" y="236232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881960" y="3733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064960" y="54100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66" name="Oval 10"/>
          <p:cNvGrpSpPr/>
          <p:nvPr/>
        </p:nvGrpSpPr>
        <p:grpSpPr>
          <a:xfrm>
            <a:off x="3902040" y="2786040"/>
            <a:ext cx="268200" cy="262080"/>
            <a:chOff x="3902040" y="2786040"/>
            <a:chExt cx="268200" cy="262080"/>
          </a:xfrm>
        </p:grpSpPr>
        <p:pic>
          <p:nvPicPr>
            <p:cNvPr id="67" name="Oval 10" descr=""/>
            <p:cNvPicPr/>
            <p:nvPr/>
          </p:nvPicPr>
          <p:blipFill>
            <a:blip r:embed="rId5"/>
            <a:stretch/>
          </p:blipFill>
          <p:spPr>
            <a:xfrm>
              <a:off x="3902040" y="2786040"/>
              <a:ext cx="2682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984480" y="284148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69" name="TextBox 11"/>
          <p:cNvSpPr/>
          <p:nvPr/>
        </p:nvSpPr>
        <p:spPr>
          <a:xfrm>
            <a:off x="1143000" y="2666880"/>
            <a:ext cx="26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 Stateme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art of an e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capture the reader’s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ttention get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tate your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ridge or transition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sis statement (always at the e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0800" y="151920"/>
            <a:ext cx="8042400" cy="11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s to Start Your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41320" y="152388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some interesting background about the topic in the form of a general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thought-provoking qu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a question about your to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a surprising fact or a puzzling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ith a short 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5080" y="152388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84560" indent="-2484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’s gnome owners become tomorrow’s lea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84560" indent="-2484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omes are creatures to be loved, not feared!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84560" indent="-248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S. Ros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84560" indent="-2484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on’t many people like gnom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84560" indent="-2484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693, the first gnome was brought to Amer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84560" indent="-24840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le Susie looked out her window, only to see her precious gnome, Willard, was being stolen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0800" y="436320"/>
            <a:ext cx="80424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s to Start Your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a common miscon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a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n ana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how the topic is related to the reader’s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don’t learn bad habits from gn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one knows what a problem gnome-napping has become in our socie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omes are just like child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eople know how difficult it is to take care of garden gn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a bridge to connect the attention getting sentence(s) to your thesis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way to make a bridge is to explain why the topic is importa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bridge is often a few sentences l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de introductory paragraph with the most important idea of the essay-THE THESIS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s of a Thesis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450720" y="1925640"/>
            <a:ext cx="8242560" cy="44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s of a Thesis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4" descr=""/>
          <p:cNvPicPr/>
          <p:nvPr/>
        </p:nvPicPr>
        <p:blipFill>
          <a:blip r:embed="rId1"/>
          <a:stretch/>
        </p:blipFill>
        <p:spPr>
          <a:xfrm>
            <a:off x="438120" y="1920960"/>
            <a:ext cx="826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8:57:48Z</dcterms:created>
  <dc:creator>Brooke</dc:creator>
  <dc:description/>
  <dc:language>en-US</dc:language>
  <cp:lastModifiedBy>CLASSIC</cp:lastModifiedBy>
  <dcterms:modified xsi:type="dcterms:W3CDTF">2020-03-29T21:23:47Z</dcterms:modified>
  <cp:revision>20</cp:revision>
  <dc:subject/>
  <dc:title>How to write an essay</dc:title>
</cp:coreProperties>
</file>